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9A7-37D5-427C-A639-3101881E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101-02D1-4B6A-8C28-C8C3FF6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34D-C930-4F0F-8C47-7488ABCF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F47-7A0B-4D65-8F5E-418FAAC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FE8C-E24C-4880-B54B-ABAD17D0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F43-ECE5-48A4-B2B8-05DCD1C9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3E6-3C18-4305-B15C-B55DE509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BE1-42E4-4A6D-A73D-139EA30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D1F-1E35-4A07-9F01-4ADCC9E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7536-8B8F-4EE2-992A-D244F83F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EF0-152E-4383-9B5E-85284A4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813-3E18-49B6-86C5-EB72B09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847-8364-499A-B100-53899A4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6F2-9896-4F11-88EC-7E28F3B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0124-A9DD-4E09-BFE0-B4642889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2F5-0F67-4439-B279-DF5A6209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DC9-A924-4007-9FFD-A968E4F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12C-FD99-490D-8C9E-414ACEE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1F1-7173-4CDD-B7A3-17F1425B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3A4-FE7A-47EA-A295-11613519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37F-E563-4E65-BBE9-9A4ECC7B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6F2-0F74-425E-ABD5-6309023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6DA-FEE9-4AB0-9847-6A647C3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EAF-7C31-488D-8902-8A6B918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C64-AED2-49C6-80FF-13A37397B3C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A410670-3939-463F-B8AA-8A9923A7C57F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: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78EE-FCB0-4A24-97D6-003589EE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64E2-35CC-41D6-B631-5D7020A76F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E4E83FF-7B65-481E-8C82-F4217366595F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: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3B7-5476-493C-81FF-77D881583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ulinet.hu/tart/fcikk/Kcu/0/32372/1" TargetMode="External"/><Relationship Id="rId2" Type="http://schemas.openxmlformats.org/officeDocument/2006/relationships/hyperlink" Target="http://www.sulinet.hu/tart/fcikk/Kcx/0/31819/1" TargetMode="External"/><Relationship Id="rId3" Type="http://schemas.openxmlformats.org/officeDocument/2006/relationships/hyperlink" Target="http://www.sulinet.hu/ikt/digitalis_pedagogia/matematika.html" TargetMode="External"/><Relationship Id="rId4" Type="http://schemas.openxmlformats.org/officeDocument/2006/relationships/hyperlink" Target="http://www.sulinet.hu/tart/cikk/Se/0/17763/1" TargetMode="External"/><Relationship Id="rId5" Type="http://schemas.openxmlformats.org/officeDocument/2006/relationships/hyperlink" Target="http://www.sulinet.hu/tart/fcikk/Kch/0/32487/1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yakg.u-szeged.hu/" TargetMode="External"/><Relationship Id="rId2" Type="http://schemas.openxmlformats.org/officeDocument/2006/relationships/hyperlink" Target="http://www.gyakg.u-szeged.hu/" TargetMode="External"/><Relationship Id="rId3" Type="http://schemas.openxmlformats.org/officeDocument/2006/relationships/hyperlink" Target="http://matematika.sulinet.hu/" TargetMode="External"/><Relationship Id="rId4" Type="http://schemas.openxmlformats.org/officeDocument/2006/relationships/hyperlink" Target="http://matematika.sulinet.hu/" TargetMode="External"/><Relationship Id="rId5" Type="http://schemas.openxmlformats.org/officeDocument/2006/relationships/hyperlink" Target="http://matematika.sulinet.hu/" TargetMode="External"/><Relationship Id="rId6" Type="http://schemas.openxmlformats.org/officeDocument/2006/relationships/hyperlink" Target="http://matematika.sulinet.hu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11&amp;t=mat&amp;l=hu" TargetMode="External"/><Relationship Id="rId2" Type="http://schemas.openxmlformats.org/officeDocument/2006/relationships/hyperlink" Target="file:///b_4035(K&#246;MaL).dfw" TargetMode="External"/><Relationship Id="rId3" Type="http://schemas.openxmlformats.org/officeDocument/2006/relationships/hyperlink" Target="file:///b_4035(K&#246;MaL).dfw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801&amp;t=mat&amp;l=hu" TargetMode="External"/><Relationship Id="rId2" Type="http://schemas.openxmlformats.org/officeDocument/2006/relationships/hyperlink" Target="file:///b_4057(K&#246;MaL).dfw" TargetMode="External"/><Relationship Id="rId3" Type="http://schemas.openxmlformats.org/officeDocument/2006/relationships/hyperlink" Target="file:///b_4057(K&#246;MaL).dfw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i%20a%20hat&#225;rozott%20integr&#225;l.dfw" TargetMode="External"/><Relationship Id="rId2" Type="http://schemas.openxmlformats.org/officeDocument/2006/relationships/hyperlink" Target="file:///Mi%20a%20hat&#225;rozott%20integr&#225;l.dfw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46;sszetett%20f&#252;ggv&#233;ny%20inverz%20f&#252;ggv&#233;ny.dfw" TargetMode="External"/><Relationship Id="rId2" Type="http://schemas.openxmlformats.org/officeDocument/2006/relationships/hyperlink" Target="file:///&#246;sszetett%20f&#252;ggv&#233;ny%20inverz%20f&#252;ggv&#233;ny.dfw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kurzi&#243;.dfw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iperbola_parabola_ellipszis.dfw" TargetMode="External"/><Relationship Id="rId2" Type="http://schemas.openxmlformats.org/officeDocument/2006/relationships/hyperlink" Target="file:///hiperbola_parabola_ellipszis.dfw" TargetMode="External"/><Relationship Id="rId3" Type="http://schemas.openxmlformats.org/officeDocument/2006/relationships/hyperlink" Target="file:///hiperbola_parabola_ellipszis.dfw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04&amp;t=mat&amp;l=hu" TargetMode="External"/><Relationship Id="rId2" Type="http://schemas.openxmlformats.org/officeDocument/2006/relationships/hyperlink" Target="file:///b_4001.dfw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b7"/>
                </a:solidFill>
                <a:latin typeface="Arial Black"/>
              </a:rPr>
              <a:t>A Derive program alkalmazási lehetőségei a matematika oktatásában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32A567-7739-4ADA-9A09-B61352189D31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b7"/>
                </a:solidFill>
                <a:latin typeface="Arial Black"/>
              </a:rPr>
              <a:t>Derive-os oldalak az Interneten</a:t>
            </a:r>
            <a:r>
              <a:rPr b="1" lang="hu-H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kurziók Derive-val (http://www.sulinet.hu/tart/fcikk/Kcu/0/31262/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ges összegek vizsgálata Derive-val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ulinet.hu/tart/fcikk/Kcu/0/32372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atározott integrál fogalmának előkészítése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ulinet.hu/tart/fcikk/Kcx/0/31819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igitális eszközök használata a matematika tantárgy oktatásában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sulinet.hu/ikt/digitalis_pedagogia/matematika.htm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rive – egy program a matematika tanításához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sulinet.hu/tart/cikk/Se/0/17763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használható a számítógép a matematika feladatok megoldásában?.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www.sulinet.hu/tart/fcikk/Kch/0/32487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j Calculus Bt honlapja (http://www.calculus.hu/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A30F0-1839-494E-A779-059464314297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007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@gyakg.u-szeged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ika@sulinet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tamas@gmail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5B1DA-92F1-4424-8D0A-F2C8DF886157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őzmény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rive első hallás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ducatio Kiáll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az iskolánk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a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ulinet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Matematika rovat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F0D61-8317-4155-AD8F-BE17CE28C8ED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35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djuk meg a 2cos5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4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3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2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1=0 egyenletet valós számok halmazá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segíthetjük a tanítványainkat a feladat megoldásáho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C0515-565D-4D98-B2BC-2AFFFAA9E6A6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57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ldjuk meg az 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-6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+5=0 egyenlete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 megoldást segítő 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0" y="0"/>
                <a:ext cx="7621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3F55D-1273-47A2-94E2-E14A50351AD4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a határozott integrál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9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melt szintű érettségi egy fontos fogalmának egy tárgyalási lehetősége a Derive program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082FB-2287-405D-AC0F-3A5D20BEA4FD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Összetett függvény, inverz függvén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éhány nevezetes függvénytani fogalom Derive programmal segített  feldolgozási mód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D4DA1-E8CB-43AC-9150-D3DB343A353B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gy várhatóértékes problém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pénzdarabbal addig dobunk, amíg háromszor egymás után fejet nem dobunk. Várhatóan hányadik dobásra következik ez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flash anim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http://www.sulinet.hu/tart/fcikk/Kcv/0/19115/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 probléma tárgyalását segí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B42D7-0592-434E-8352-0C78458FFDFA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perbola, parabola, ellipsz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juk meg azoknak a pontoknak a halmazát a síkban, melyeknek egy adott ponttól és egy rá nem illeszkedő egyenestől mért távolságaik aránya állandó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éhány konkrét arányt bemutató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Ami még szeb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graph anim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A7AD0-E2CF-41C0-B626-A7274F020F5E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01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. 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rom barátnő, Xénia, Yvett és Zita egy napon egymástól függetlenül, véletlenszerűen választott időpontban betérnek egy-egy órára a déltől este 8-ig nyitva tartó internetes kávézóba. Mennyi a valószínűsége, hogy mindhárman összefutna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A problémát szemlélte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gyanez Autograph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70449-D0E3-40E7-82CE-21A553A3A893}" type="datetime8">
              <a:rPr lang="en-US"/>
              <a:t>07/29/26 21: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8:30:16Z</dcterms:created>
  <dc:creator>diak</dc:creator>
  <dc:description/>
  <dc:language>en-US</dc:language>
  <cp:lastModifiedBy>csiger</cp:lastModifiedBy>
  <dcterms:modified xsi:type="dcterms:W3CDTF">2008-04-24T07:02:52Z</dcterms:modified>
  <cp:revision>32</cp:revision>
  <dc:subject/>
  <dc:title>A Derive program alkalmazási lehetőségei a matematika oktatásában </dc:title>
</cp:coreProperties>
</file>